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C0B4D-4B10-4091-9EA0-7975B52881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28FD3-0952-485D-BCD5-5DA4C25C9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368996-84F8-4477-BCB7-D0D63C28FE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81EFE6-AB30-42A0-9842-66D1C51EC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64500A-5DAB-45C7-B270-5100B7BE0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6DE278-E4B5-413B-9F57-802A4A9FD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DF229A-86EC-480C-A98F-9CFF75363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46A2B8-269C-4422-86E9-7E7BC841D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C7C89F-5BC3-4691-B016-50DC9ADF3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60E133-27DA-495E-B3BC-E870639FF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B9742B-16EC-43C9-96B3-6D220DF78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4523D2-30DF-4C81-9DCD-4BE7B7961C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60A1-D1B6-4061-8DB4-BA8BE7EFC0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arrow" w="med"/>
            <a:tailEnd len="med" type="arrow"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arrow" w="med"/>
            <a:tailEnd len="med" type="arrow"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